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92A4-F799-4464-9461-BF05347D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0C9-8EE9-4D2F-8E36-4AA9A330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50FE7-59A6-4160-9FD3-A9117981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791F8-B722-46B0-AC19-31376452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5DEE4-1F83-4C7B-B9CE-BCED89B1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C3808-9B39-4F21-B8D9-4407C7D8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B95D3-DCB7-44BC-B5A9-5CE7B472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DCFF1-1F9B-4397-8C94-F9D3FED3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6EE13-006F-4062-96CD-951E0370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CBB31-0C90-4848-86E1-9C50BEB1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8754D-E9A6-4A8D-B502-AE114148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6FE96-389E-4949-8E91-C075C8E2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AB4-BA09-40CF-9CF6-173B8A2D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3E914-648B-4CB3-A332-E6CAA63F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83459-961C-4C3B-A5D7-1B808EAB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F11A9-49B1-433B-BBAF-B2FDF7AC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31718-C7FA-4239-9969-6F2F9101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C35DE-A6EF-46C8-B234-FBE418D9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8740A-0F9A-49D6-8C47-D710C130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84F6D-4235-4CBF-B531-9EC17373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37414-6D14-4DA7-AA69-491BB62A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1BF95-0B65-4302-81E6-5FC39E8A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C8EF6-86D5-4354-A29B-6A962695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9821-03B2-4706-836A-371E33CE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121AD-7680-4F84-96A0-4046041B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A7345-E92A-4D01-96C2-C7DC21AE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5D317-7F70-4040-B617-7887BA68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B5736-9C07-4655-912F-3E6832AF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DB1A3-BE29-435E-9CF3-051EFC34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A0A84-14BD-4D21-A5C4-E32E4478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E4416-9272-4BE6-80D5-9EE3D7B1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B9192-4304-4D24-9E89-1DF18676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4BA0D-138F-436B-9710-A8C6B73B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20340-5AA9-4951-B8A0-B71614AD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60F3-21ED-45C3-92E3-19C46FFE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05DDF-F51B-4EA5-847B-7EC6B6AF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C51C5-F18F-4747-A04D-763EFCEC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04F65-CA36-4ECA-B1D5-85321526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8CCDC-6C22-4195-8679-DD8CD2C1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7B0B1-B22A-44C3-B0D8-CD395DC2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66AA8-E16D-4231-A38F-4AE44E1A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E5FDE-36FA-45D0-BAA4-76E24094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2655C-AFF8-4593-AD37-4E4D28AD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0F77B-53D5-43B2-9915-A8434422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3DCDD-2575-48A7-AE40-DEFB1953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8697-54C7-4C7C-A6DC-69D3BF62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7B255-522E-4BBA-9385-BCD095F2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6B396-ACC7-4A14-BBEB-3266006E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EED54-B0AD-4E07-8EAE-A357C3A3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FDD0B-733C-4D93-BD3B-808F8938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F88F9-7DCC-4604-9A56-7C74A76F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E4A891-F8AD-40CE-86EC-B128C7A4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D0AEA-BA23-4225-AE47-D00A09B9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204977-A33F-4307-B609-0D463BF5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D1FF2-CB33-4E0B-BE6D-B5BCAABF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2CAD7-63A8-43D0-B011-EF290FFD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66F8-3C4C-4FCF-9745-040F84AE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9DF62-5FDD-46C5-A217-9D58838B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B69CA-3113-4DB5-8FBE-AE310462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F14DA7-100F-435A-9A2C-B4D37A6D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34002-942C-432D-893F-608710A3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AD2B0-D9A7-4E14-A2C6-5CAC5BBC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F1E531-4C65-4029-9175-0577EB34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3C5C3-7BEA-4D36-B9A0-8EC911E0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5E42FC-BBB6-4626-827D-BF9482EE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128DD-B954-41D0-ADFE-CF67ED46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8C3BFA-8457-480A-A856-FC3FF1CF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37D0-0D41-4C32-B9ED-1A1E4A0E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D3A04-4CC7-4F92-A104-E34016D8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920E52-8231-4F6B-AF44-D337601D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D2F59C-7E40-4583-A2D7-C6ED9C42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70BA4A-21A8-4CFD-BB96-CE61A163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A58347-37F7-4048-BD3E-71141A23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F9FDF0-B1F6-4807-846E-1703A76E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E225AD-57FF-4439-AF81-EA4BB90C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EED258-7F2D-401B-BAA1-79245457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3593DE-214F-41EA-935F-ED85FF73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2DF1D9-D816-483B-B3BE-6DCFC2A7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8737-4BE0-42CB-9C0D-6101A10F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6595CD-C07C-4059-9C26-094F9D9C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66A234-9961-4E6B-868F-9AAFAF38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B2D496-272D-45B8-90BA-53F59156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E61585-8687-4251-9877-DA4EDBAA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4D5311-9300-4C84-A8F7-2E71A43C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DF3462-884E-420F-A4FF-09BF701C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D99136-9904-4923-B488-C9305B0B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EF6065-3C31-4D25-996F-EC128839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11FDC0-E72A-4DB8-BE4C-FB3CC81A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C9DCA8-8394-45AD-80BC-35CB49B3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AC36-816B-4B3B-B53A-ABF47BE2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D1C389-E451-4D63-B798-7B7B97E1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138C7F-A9A3-424B-AC4D-07678B7F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4B5030-B9F3-4978-BE78-B80E96E4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E314FA-D0B9-4F2B-A6A7-9762277A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8EA95B-110C-4337-A665-9BA9C155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E49FAC-2DDF-4D8D-BDF1-2439C5DE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978B58-4062-438C-B1CB-760C282E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F68A47-53CB-4869-A6EA-0CDB2608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39F5F5-ADB2-47E2-B2BB-B3C09571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ED60AA-B2A2-48C4-A2BE-3B3BB838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B374-1E93-412D-A834-0084A61C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2D0A0E-9C5E-4E0F-A4BA-DFC8D433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B1EB2D-6331-4885-A44E-C5244E94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56F7F2-5AF6-4F3D-B2A4-0ABF24C4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058F23-5EC6-4DBE-9D29-007183A5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3A2AEC-A74E-44A1-80D3-0C8D14CC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39A1C7-F653-47F6-BDED-EE0EE3E5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F15879-0D94-4436-A4B8-32DF41AF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1CBF7C-2CB3-4314-82D8-E6F9DBEE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8659A5-7D70-48F2-8058-F18AD63A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A4A12D-C289-4C6E-975D-6660E338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A84-DB91-42AD-88D2-D5DCD457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2F3A-9B81-40EE-880B-A68378DB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74A13A-2001-4A99-A746-350D1DF5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0C31EE-8700-4B9D-9F14-DB9C0E2C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66A60D-4C68-4EBA-89BF-DCBF5F84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75A061-08A7-4DCA-BF35-854655C3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60A7B3-1F70-4002-9F42-F4286EC1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E3C93C-1121-4A0D-9BD8-6265EF44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D28569-9185-4D5D-BB27-37952CD8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39D07B-D827-42A4-863E-2777993C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F34F44-777B-4FB9-A40E-7731729B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03A5C5-2CD8-4847-BF1D-340E92DA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EF2B-A2FE-4263-94AA-94609477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E43476-40E8-4450-BA9C-52D35BD4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0CEEE6-97ED-481E-82AF-47F3A9C3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7E7ECE-2D02-41AD-8D5A-5CE7BB99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D9B1FF-21D9-4AE3-B8AA-7F2EF5E0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BACD05-1C01-4AD2-A5BE-3E93EB20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7AF113-20D5-46B7-BA19-1380040A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B5F1B2-90DB-4763-A12A-242B3420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539CB2-1458-4E31-804E-0F7EFB02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C88F3D-6489-427F-A977-5503D2B3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94561F-9DE2-4AEB-A700-3FB66C21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1998-9564-45CA-A549-2998EE88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53F341-5796-482F-B01A-568B6598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B7F9C1-23B0-4A4A-ACC5-3254B8E1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4A780E-98FE-422F-BCAE-E14E602D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042B28-24FB-4DE1-88AE-960702E2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C72E21-0C55-46A7-86D0-C31DA028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9CAB13-98EB-4790-AA65-3881AE43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17AB54-2EFF-4BA9-9B89-1C788819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7F63ED-822C-4CD6-845C-61CE91A0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E6A3A8-4119-4EBB-B2AF-5DF1EC83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33D198-A715-4137-B708-A589CEEA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7F34-6A4F-40D2-B0FB-414AAB5D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3EC5A6-3692-48AD-BBB2-1126BEE8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BAE9F6-AFED-45F7-BDB0-A11BCD4D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16E23F-CC56-4090-9D64-4B09784B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2BA832-51D4-40DC-B859-CA0D669E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ADEB34-8712-47BF-8EB2-FF7A8586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264C2D-0CF0-4F4E-9BB1-0E6797DB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551F57-9B77-4C4B-A4F1-092F3358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FAEB0A-EFC0-4FAC-A1ED-2F893C9E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33C2AA-7116-418A-AFC1-70A0CDE7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E846A7-5F14-421B-95F5-E665BB70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60E7-B96F-4F56-B27B-F78A7370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ADEF31-39C5-42EB-A68C-FC5603E9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6661EE-9BB2-4142-9BCE-2B71A8E9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0E7B43-790B-4A3A-AA7D-19834E63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13CC06-4700-4533-88AA-D6562748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624455-A976-4EF9-B853-61C84CF5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E29A0C-9ACB-451B-AC39-EB16C531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85382B-F564-4C80-9B7D-44902C49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79AE85-DB9F-4A65-8EFE-A4149738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8BDD64-CA98-4F5F-9228-D0B4CF7B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8893DE-FA68-42B8-804D-CC1BD295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362D1-BFE2-4C85-B83D-7762BC5C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B43376-FCB7-4D6A-8992-F1C4AEBC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6CDB7D-168D-4149-97F8-9ED2DA29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937D88-A15D-4090-89BC-ADD08FE6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8E4A3-228F-4AE3-A727-899D2B84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87D77-B9C1-4446-8A9C-040E9381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F8B19-C132-4650-845A-38DA4BA7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CEF88-DE84-4948-800A-18D8E423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9DAC-BF42-41D1-B518-BCFEEE3E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21945-69B5-492C-BFFF-A45F929C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B9AF5-3B07-48FA-B20A-66594ED5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C1E70-8CB5-4AE0-B016-8D75BB0B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3538E-B4F5-4B80-B61A-3A3584A9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E3FA2-BF35-42D9-8240-D8C6748B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2F5BA-C978-4E08-99D5-11239D20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DE485-B179-420B-9274-4A88DFCA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0659A-4D3E-431D-A760-D8655DD7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83411-C5DB-4D00-8091-1E29EFA7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EF1B4-35AD-4E42-8D3F-96D4FFC4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6DC-1B00-41EA-B0FA-C5E6312A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8F753-C037-44E0-BE4F-0D5402F5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06F9E-E61D-4166-8A4B-1D4F21B8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763E5-724A-4482-8720-081BEEA9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08CED-9EBE-4273-A275-00245CFC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624DD-1AA0-4285-8AA9-7C49796C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E10AC-513C-41DA-9D0A-95A54B69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0214D-51C7-4955-BA68-5226A1DC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E72DB-1E05-45E1-895B-30BA58B6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5BB83-ED3E-4C25-BB2D-A108C5C7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AD717-361D-49A3-9EA1-E0B2AE77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DAC-AF3B-4CB2-A4A3-965D3547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C8463-7D5C-4501-911B-C0539488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32996-433D-45AA-9812-B7506758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5D9A3-4917-4270-874C-1A638D28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558F6-95CA-4556-BE69-9B84E742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9A2F1-11BA-4E76-9E08-30413CDD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190BA-5957-48CF-870E-73E52331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FE045-9202-4E6D-8065-37D21D31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BC0E4-D761-4677-BDB7-09CF29F7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89B1B-FA33-46CB-AFB2-DEDA32B5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62E38-159D-4618-99F4-956669EF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2E9-8020-41F5-823C-B120A097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8C409-35FE-4715-934F-E2F8C1E6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84BDC-6F63-4098-911C-DD96916D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6F6E7-68DE-4356-9A25-D655847C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140A5-E20E-4000-8F0A-62C48E16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9B922-9599-433F-BDF5-D8A0B331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14B1A-50C2-4769-9975-862AC6C6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DFCDC-F14F-4922-A0DF-C0D61ECF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89E42-6C40-48AC-B609-1448AD90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D1D7B-2AEB-4681-A022-360FF94A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A0AE9-BF55-4D44-81F3-A4BA90FE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1AF-4691-419B-9AAB-88456AB0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0B651-4305-4328-9ACF-BFBE6606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E30AE-51B0-43FD-A022-C0FF3777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83023-B313-4034-BB23-81DCB874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F17E2-404E-4D47-98D6-FD46DCA8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1CC67-E87D-4B3E-BDDF-B97D270E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369E9-969A-4E51-86FF-4660D516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DF235-211A-4D72-9329-031300E4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3E571-C0F7-4B09-AD24-9EF1194E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EA234-CCC3-4DF7-99A4-31D3CAB8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3A3BD-94EA-42A3-9B04-FC877AF1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7FAE-F7AF-41CE-9A31-7A4B0B74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49F69-D945-4D42-A21A-0D5A5560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3ED26-AC95-4851-B206-5AB2971B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2C43E-BB8C-4152-95FD-93735F1A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72E26-0B18-4AD8-9E69-2A243596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66BEB-4286-4835-BE4F-B3C7DE98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AF572-C33D-4210-A36E-92BF1AE9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0FD92-0F39-4045-9A51-EA0716FE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48CF3-AA6C-4E25-AE1E-CCCE1F29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AB44D-7ED5-407F-8437-D7D9DEE7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8A3F8-15C5-4DFC-A524-9DB9FC3E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E39-A8DB-42C2-BD3C-84831C24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4D113-8F09-4EDB-82B1-7259B158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B5DDE-A750-4166-89C5-0E1D3993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DB51E-8A4E-463E-A377-1D9516AE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A157C-F60E-4448-93F8-F391C2D2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FFCA9-F04B-4407-BBDC-C2DED1A3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8B2DA-A102-4A7B-948D-0ECA1C95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C7913-27FC-4641-822E-07BF4217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331DF-D2FC-4F58-8FEC-10F7E50F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242B2-36BB-4866-A4E6-C56C633C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A6162-92A7-4F81-9A8E-C8CE3571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4D9B-F231-4157-B45B-FD039092E2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9CE8-A7B5-415B-BE0F-3A992881EA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20CE-5DFE-4F47-B0EF-3FA15EF712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F8FF-03E9-4454-B3DA-CE91C4356A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A328-950B-4F64-8337-6B605838CA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2B40-05EE-4498-B684-6ED48FE52D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E2C9-B8EA-4321-A11A-2AA8FAAE3E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5882-7DDB-43A5-B1DD-98552248F6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2BE6-F9CD-4D46-AC22-0C5AA3A8ED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0B07-837D-4AFB-8897-571EBA6767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BCE5-250C-43D0-9260-0C3A815CF5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4226-C2EB-487B-A4A5-DEBADB1EDE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3C56-8288-4105-BA9B-7C36599E41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6661-DCB0-4C19-BEF9-26B91709D9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1A07-5CA1-4AD3-BA7E-72D67B1511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A0D7-E157-4213-98E5-1226CB2EEE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744F-118A-417C-A150-A1B40E3AB1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E7DF-F954-4E76-A804-9F305806D8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B96C-A33D-48A0-83C9-C05F6655D3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3EF8-5ED7-49E4-8FE7-52835FF395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A25F-8BC3-48F2-821B-F521952B08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CAAA-98E8-4089-851C-EBD90D2878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E7D0-5062-4054-8D2B-94FCE943FD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9CFE-BB62-402E-B91E-731BD765D5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53FB-0742-404B-8B24-322A2F33B5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3A0D-ED1F-4445-AF33-5FDC6DAD15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EE5B-D150-4C25-A417-31EE6D293D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4AA7-94A7-46EC-A481-24637CE421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488C-5715-4390-8963-54B83E8C58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18B9-C65B-4DF9-B090-F251D581E7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F876-920D-4C7D-973A-88342DD321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AB57-D48A-4619-9F08-A220DD0CD6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C6A0-0A2C-4DDE-8F79-6124A2E95D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6324-F3F2-4D0E-9C3B-F246F864F6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F274-FC89-4530-90B2-CE88D3647F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622D-D3C4-4610-BF64-CA11109603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D2C9-0133-42B8-AFCF-B5C19ED9AE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D81B-F876-4B13-A049-746548869F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8F4F-F3AA-4663-A6AE-52D29828C1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E3AA-B50A-41FF-A25E-8A68A6C257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433680" y="3176640"/>
            <a:ext cx="22766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52280" y="2352600"/>
            <a:ext cx="8839440" cy="21528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95280" y="3726000"/>
            <a:ext cx="4248000" cy="2728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24000" y="4076640"/>
            <a:ext cx="6912000" cy="2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228600" y="814320"/>
            <a:ext cx="8686800" cy="52293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3419640" y="4653000"/>
            <a:ext cx="431640" cy="2728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6084720" y="4653000"/>
            <a:ext cx="432000" cy="2728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4211640" y="4970520"/>
            <a:ext cx="1944720" cy="2728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755640" y="5608800"/>
            <a:ext cx="612144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157320" y="1190520"/>
            <a:ext cx="8829360" cy="4476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468360" y="2382840"/>
            <a:ext cx="2951280" cy="2728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468360" y="2708280"/>
            <a:ext cx="2951280" cy="2728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3635280" y="4086360"/>
            <a:ext cx="432000" cy="2728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2484360" y="4807080"/>
            <a:ext cx="432000" cy="2728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2268360" y="5214960"/>
            <a:ext cx="790920" cy="2728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7"/>
          <a:stretch/>
        </p:blipFill>
        <p:spPr>
          <a:xfrm>
            <a:off x="3492360" y="4811760"/>
            <a:ext cx="432000" cy="2728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8"/>
          <a:stretch/>
        </p:blipFill>
        <p:spPr>
          <a:xfrm>
            <a:off x="3276720" y="5219640"/>
            <a:ext cx="790560" cy="2732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9"/>
          <a:stretch/>
        </p:blipFill>
        <p:spPr>
          <a:xfrm>
            <a:off x="4491000" y="4821120"/>
            <a:ext cx="432000" cy="2732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0"/>
          <a:stretch/>
        </p:blipFill>
        <p:spPr>
          <a:xfrm>
            <a:off x="4275000" y="5229360"/>
            <a:ext cx="790560" cy="2728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1"/>
          <a:stretch/>
        </p:blipFill>
        <p:spPr>
          <a:xfrm>
            <a:off x="5435640" y="4830840"/>
            <a:ext cx="431640" cy="2728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2"/>
          <a:stretch/>
        </p:blipFill>
        <p:spPr>
          <a:xfrm>
            <a:off x="5219640" y="5238720"/>
            <a:ext cx="790560" cy="2732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3"/>
          <a:stretch/>
        </p:blipFill>
        <p:spPr>
          <a:xfrm>
            <a:off x="6443640" y="4830840"/>
            <a:ext cx="432000" cy="2728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4"/>
          <a:stretch/>
        </p:blipFill>
        <p:spPr>
          <a:xfrm>
            <a:off x="6227640" y="5238720"/>
            <a:ext cx="790560" cy="2732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5"/>
          <a:stretch/>
        </p:blipFill>
        <p:spPr>
          <a:xfrm>
            <a:off x="8485200" y="2340000"/>
            <a:ext cx="431640" cy="2728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6"/>
          <a:stretch/>
        </p:blipFill>
        <p:spPr>
          <a:xfrm>
            <a:off x="8469360" y="2708280"/>
            <a:ext cx="431640" cy="2728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7"/>
          <a:stretch/>
        </p:blipFill>
        <p:spPr>
          <a:xfrm>
            <a:off x="8388360" y="3106800"/>
            <a:ext cx="431640" cy="2728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8"/>
          <a:stretch/>
        </p:blipFill>
        <p:spPr>
          <a:xfrm>
            <a:off x="8566200" y="3500280"/>
            <a:ext cx="431640" cy="2732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9"/>
          <a:stretch/>
        </p:blipFill>
        <p:spPr>
          <a:xfrm>
            <a:off x="8469360" y="3933720"/>
            <a:ext cx="431640" cy="2732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0"/>
          <a:stretch/>
        </p:blipFill>
        <p:spPr>
          <a:xfrm>
            <a:off x="8469360" y="4311720"/>
            <a:ext cx="431640" cy="2728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1"/>
          <a:stretch/>
        </p:blipFill>
        <p:spPr>
          <a:xfrm>
            <a:off x="8475840" y="4724280"/>
            <a:ext cx="431640" cy="2732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2"/>
          <a:stretch/>
        </p:blipFill>
        <p:spPr>
          <a:xfrm>
            <a:off x="8485200" y="5157720"/>
            <a:ext cx="431640" cy="2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1:40:4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